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AD8-E017-44F4-9E19-E600ABEE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3D6-A418-477D-AAEC-9875B37B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22A-8381-42EC-BA57-6E2F0471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DF0-4823-466B-85A0-1FFFD6C7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943F-286B-4BEF-821B-09922041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A96-6CA9-4BDF-9BA6-22528202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F73-42DC-43A2-BCF1-036D3256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B30-0A14-402A-B8D1-CDB228F8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09C-B278-4213-B1CB-A6D38985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C16-822F-4F6C-B0A1-D71A6B3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ED2-8EEB-481A-B9CA-53CC574D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313-A858-4A20-A034-1EE7B0E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1F40-98A7-49BE-B38D-F9169388B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hristinajclark.files.wordpress.com/2009/05/garden-may-1-039.jpg&amp;imgrefurl=http://localism.com/blog/tx/houston/posts/1312687/Best-Tex-Mex-in&amp;usg=__N-dSiEGhJ4lzDZGDGasUlSybf6c=&amp;h=2048&amp;w=3072&amp;sz=3692&amp;hl=en&amp;start=27&amp;um=1&amp;itbs=1&amp;tbnid=fhJ7uc9Fv990MM:&amp;tbnh=100&amp;tbnw=150&amp;prev=/images%3Fq%3Ddifferent%2Bmexican%2Bfoods%26start%3D20%26um%3D1%26hl%3Den%26safe%3Dactive%26sa%3DN%26ndsp%3D20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fc3.gsfc.nasa.gov/MARCONI/images-basic/spectrum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Tania y Gis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os Der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Box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Pes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Beis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Te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Volli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5105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o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P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TI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CAba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O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COCOd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G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962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AS 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Ta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Enchil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T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Poz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Pi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1703520"/>
            <a:ext cx="5715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Caf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371600"/>
            <a:ext cx="4648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AS BANDE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4:51Z</dcterms:created>
  <dc:creator>WSFCS Workstation</dc:creator>
  <dc:description/>
  <dc:language>en-US</dc:language>
  <cp:lastModifiedBy>WSFCS Workstation</cp:lastModifiedBy>
  <dcterms:modified xsi:type="dcterms:W3CDTF">2010-04-26T18:59:25Z</dcterms:modified>
  <cp:revision>3</cp:revision>
  <dc:subject/>
  <dc:title>La Clase De Espanol</dc:title>
</cp:coreProperties>
</file>